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6.png" ContentType="image/png"/>
  <Override PartName="/ppt/media/image2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FDF370-522A-446A-980C-A3E8C4BE93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CD792305-EB75-41F3-921B-AC159694CE5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A56B76-1F89-422A-BCE0-44B868CCF7F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7A4E0D-BAE1-4F02-B347-75400252D54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21CA47-13B9-4F5A-B070-9FD6307B07F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63600" y="606600"/>
            <a:ext cx="4308480" cy="3232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B79ADD-3D2E-4B9F-92E8-EDE33E52874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150560" y="5226120"/>
            <a:ext cx="40323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DA26C8-FA55-4C39-AFAB-E122F27FC63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E3BB4E-270A-41BE-B421-0BCA3DAAF2E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9EBBEB-6A80-4F4D-9680-6385A0AE3D7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B2EF90-5EA1-4DBF-8B47-695A92A045E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58677A-BE1B-40A8-8898-3DF8F57F86D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094351-410C-449B-A784-5BDFCA0D277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5ECAAE-354E-479F-B2A7-D502BFCC388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6CDCD3-A48E-491E-A289-0554CF3C724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7080" cy="3403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7630B1-7673-44D9-B10D-2A743CFC59D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00240" y="633240"/>
            <a:ext cx="4368600" cy="3276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EF4C96-E26E-4D60-A075-73146A04305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306440" y="595440"/>
            <a:ext cx="4345200" cy="3260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1ADC0D-848D-4AB1-BFE3-89B7B90D3EA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FCEFD5-AA78-4D1A-933F-EE8FAA90E0D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itments are often made when little is know about a proj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f you can’t plan early, plan often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Humphr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plan is a snapshot of what needs to be d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what you know at the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uld be revisited when new information is gai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can be made if early warning is giv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nt is not to continuously reset the end dates, but to continuously reexamine the amount of work left to do to reach the end d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SP development strategy encour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builds or cy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ing 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F9880C-CE73-40DC-8522-E2C07B03757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CD87FE-A2CA-4946-B4F6-7EE7E2F8129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50767C-4553-41C8-AB7A-5320A753F96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FA1D1F-07B7-443A-9A8F-FE0A846CF6C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4E5624-40FD-484A-83ED-9EB4DDFA400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740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w files in folder of the overall and individual and consolidate pl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meeting will produce individual and team detailed next phase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verall plan should be at a level of detail consistent with the information the team has at that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xt phase plans need to be at a level where 2 to 4 tasks can be scheduled and completed each wee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ailed tasks should be in the 8 to 10 hour ran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level of granularity will allow the team to track earned value accurate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ce the plan is detailed, balanced, and consolidated, the team has the most realistic plan that they can produce, without adjusting for ris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07647A-A381-4A87-BA02-3B0225A100A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47AA91-9DD8-48A4-BC5A-CC840959747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408AAA-B364-4729-A322-16D45DB1EC1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46B1A9-57EE-4888-A242-7FBB86DD6CA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50920" y="5226120"/>
            <a:ext cx="40305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5B31D9-17D3-4664-B707-2CC2FFC88D1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BFF302-6B5A-4B48-93AD-28393D5F626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150920" y="5226120"/>
            <a:ext cx="40305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BBC384-8620-4AC6-ADF8-F466631AA91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587160" y="4254480"/>
            <a:ext cx="5692680" cy="434952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txBody>
          <a:bodyPr lIns="28440" rIns="28440" tIns="28440" bIns="2844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077840" y="487440"/>
            <a:ext cx="4757760" cy="357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CF1FB3-FE04-4DD8-B275-49E0A136A5D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069920" y="560520"/>
            <a:ext cx="4392720" cy="3295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412100-DC27-4C11-A7FC-FBBCA1EC71E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73394F-720D-4B72-9CCC-C063854F05B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6F0623-345A-470C-9A4B-58AAB558048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7080" cy="3403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DD437B-6CE8-480B-B0C8-1E11FA6CCAB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7080" cy="34034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ED86B5-C60A-45B0-9531-6F7D5248DF4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F15E4D-B9CE-44CE-9903-B44AE2687E3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B58183-0FA8-4B4F-83B4-3EE29C48D19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D57C38-4CA7-4A02-871C-B8C16A073A5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69DDEF-491E-4CDF-9213-A6A660CD90B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7080" cy="34034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6C0BC1-AAA9-4314-9A9D-2114A63FCBD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D29174-C8F5-4F3D-A3F5-D6163FFBFD3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27240" y="595440"/>
            <a:ext cx="4394160" cy="329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90007C-F9A7-4B2E-AED4-643BD21D8BC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774CF9-F0B3-422B-BE01-7A445FD5EE8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27DDDE-A582-46C2-8A96-E097AF866A4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DDFD4F-039A-45AF-B9B4-31AADDAE0E3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5682A23F-9A4F-4165-A944-875378E8A9F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C597EBEE-91D8-4CCA-8A8E-90CA98DB8AF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Using the PSP - </a:t>
            </a:r>
            <a:fld id="{DED9C7FC-C4C1-4FA1-8A1D-D14CF01589E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0"/>
          <p:cNvSpPr/>
          <p:nvPr/>
        </p:nvSpPr>
        <p:spPr>
          <a:xfrm>
            <a:off x="1041480" y="1508040"/>
            <a:ext cx="63421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Lecture: Using the PSP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the TSP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 framework and a process structure for building and guiding engineering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ontai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build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that builds shared goals, commitments, and cohe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work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that guides the team’s  engineering processes and practi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erequisite for TSP teams is mastery of the software engineering and process skills taught in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uses a team-directed approach to tea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works best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ed product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with 3 to 15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can be applied to projects that involve both new development and enhanc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710480" y="171360"/>
            <a:ext cx="8701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60400"/>
            <a:ext cx="76546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was designed for groups of people wh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working together towards a common objec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interdependen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been trained to use the same methods for planning, tracking, and managing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pend on and support each 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ed to act, feel, and think like a close-knit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ncludes process elements that facilitate successful team-buil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iscipline: responsibility for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understanding of team goals, roles, and work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iques to manage the work to a successful conclu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710480" y="171360"/>
            <a:ext cx="8701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ed for Personal Discip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need people with good professional skills, but building successful high-performance teams requires more than just technical abi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high-performance teams are built of members who are committed to the concept of personal discip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iscipline means that all team members understand their own abilities and can make realistic commitments to each other and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develop personal discipline by learning the principles of the Personal Softwar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hows developers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anage thei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data to make sou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the quality of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quality products on predictable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sential elements of the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nd planning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7375680" y="250920"/>
            <a:ext cx="13777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973080" y="4394160"/>
            <a:ext cx="7542360" cy="15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73080" y="1746360"/>
            <a:ext cx="7542360" cy="2647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26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58400" y="1994040"/>
            <a:ext cx="325116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TSP strategy improves performance from the bottom-u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3287880" y="1978200"/>
            <a:ext cx="4993920" cy="3868200"/>
            <a:chOff x="3287880" y="1978200"/>
            <a:chExt cx="4993920" cy="3868200"/>
          </a:xfrm>
        </p:grpSpPr>
        <p:sp>
          <p:nvSpPr>
            <p:cNvPr id="141" name="Rectangle 7"/>
            <p:cNvSpPr/>
            <p:nvPr/>
          </p:nvSpPr>
          <p:spPr>
            <a:xfrm>
              <a:off x="3287880" y="4552920"/>
              <a:ext cx="4979880" cy="12934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emb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3908880" y="3264840"/>
              <a:ext cx="4358880" cy="1293480"/>
            </a:xfrm>
            <a:prstGeom prst="rect">
              <a:avLst/>
            </a:prstGeom>
            <a:solidFill>
              <a:srgbClr val="87ab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4298400" y="1978200"/>
              <a:ext cx="3969360" cy="129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5258880" y="4702680"/>
              <a:ext cx="3022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cess disciplin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erformance measur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Estimating &amp; planning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Quality management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5344560" y="3401640"/>
              <a:ext cx="28317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Goal sett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ole assignmen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ailored team proc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Detailed balanced plan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077520" y="2050920"/>
              <a:ext cx="21250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mmunic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ordin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ject track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isk analysi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1822320" y="4867200"/>
            <a:ext cx="1114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Personal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1758960" y="34354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16200000">
            <a:off x="2002680" y="3854880"/>
            <a:ext cx="770040" cy="942840"/>
          </a:xfrm>
          <a:custGeom>
            <a:avLst/>
            <a:gdLst>
              <a:gd name="textAreaLeft" fmla="*/ 0 w 770040"/>
              <a:gd name="textAreaRight" fmla="*/ 770400 w 7700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49" y="0"/>
                </a:lnTo>
                <a:lnTo>
                  <a:pt x="21600" y="10800"/>
                </a:lnTo>
                <a:lnTo>
                  <a:pt x="15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Process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17720" y="1712520"/>
            <a:ext cx="3425760" cy="4589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200" bIns="5220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rojects can start on any phase or cyc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hase or cycle starts with a launch or re-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rategy i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 in increme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multiple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 process structure that makes the most business 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88080" y="3098880"/>
            <a:ext cx="1470240" cy="1197000"/>
          </a:xfrm>
          <a:prstGeom prst="rect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7416720" y="3184560"/>
            <a:ext cx="1470240" cy="1197000"/>
          </a:xfrm>
          <a:prstGeom prst="rect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445000" y="4398840"/>
            <a:ext cx="1629000" cy="59868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 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ostmortem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45360" y="3270240"/>
            <a:ext cx="1469880" cy="1197000"/>
          </a:xfrm>
          <a:prstGeom prst="rect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5826240" y="1808280"/>
            <a:ext cx="1027080" cy="46980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Launch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7" name="AutoShape 9"/>
          <p:cNvCxnSpPr>
            <a:stCxn id="156" idx="6"/>
            <a:endCxn id="155" idx="0"/>
          </p:cNvCxnSpPr>
          <p:nvPr/>
        </p:nvCxnSpPr>
        <p:spPr>
          <a:xfrm>
            <a:off x="6852960" y="2042640"/>
            <a:ext cx="1127880" cy="122796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58" name="AutoShape 10"/>
          <p:cNvCxnSpPr>
            <a:stCxn id="155" idx="2"/>
            <a:endCxn id="154" idx="6"/>
          </p:cNvCxnSpPr>
          <p:nvPr/>
        </p:nvCxnSpPr>
        <p:spPr>
          <a:xfrm rot="5400000">
            <a:off x="7410600" y="4129920"/>
            <a:ext cx="232560" cy="90720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59" name="Oval 11"/>
          <p:cNvSpPr/>
          <p:nvPr/>
        </p:nvSpPr>
        <p:spPr>
          <a:xfrm>
            <a:off x="5673600" y="2646360"/>
            <a:ext cx="1197000" cy="46980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Re-launch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0" name="AutoShape 12"/>
          <p:cNvCxnSpPr>
            <a:stCxn id="154" idx="2"/>
            <a:endCxn id="159" idx="2"/>
          </p:cNvCxnSpPr>
          <p:nvPr/>
        </p:nvCxnSpPr>
        <p:spPr>
          <a:xfrm flipH="1" rot="10800000">
            <a:off x="5443920" y="2880720"/>
            <a:ext cx="229320" cy="1818360"/>
          </a:xfrm>
          <a:prstGeom prst="curvedConnector5">
            <a:avLst>
              <a:gd name="adj1" fmla="val -100000"/>
              <a:gd name="adj2" fmla="val 50000"/>
              <a:gd name="adj3" fmla="val -100000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61" name="AutoShape 13"/>
          <p:cNvCxnSpPr>
            <a:stCxn id="159" idx="6"/>
            <a:endCxn id="155" idx="0"/>
          </p:cNvCxnSpPr>
          <p:nvPr/>
        </p:nvCxnSpPr>
        <p:spPr>
          <a:xfrm>
            <a:off x="6870240" y="2881440"/>
            <a:ext cx="1110600" cy="3895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62" name="Oval 14"/>
          <p:cNvSpPr/>
          <p:nvPr/>
        </p:nvSpPr>
        <p:spPr>
          <a:xfrm>
            <a:off x="5521320" y="5389560"/>
            <a:ext cx="1628640" cy="59832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roje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ostmortem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3" name="AutoShape 15"/>
          <p:cNvCxnSpPr>
            <a:stCxn id="155" idx="2"/>
            <a:endCxn id="162" idx="6"/>
          </p:cNvCxnSpPr>
          <p:nvPr/>
        </p:nvCxnSpPr>
        <p:spPr>
          <a:xfrm rot="5400000">
            <a:off x="6953400" y="4662720"/>
            <a:ext cx="1222920" cy="83124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64" name="Rectangle 16"/>
          <p:cNvSpPr/>
          <p:nvPr/>
        </p:nvSpPr>
        <p:spPr>
          <a:xfrm>
            <a:off x="4846680" y="3355920"/>
            <a:ext cx="1015920" cy="85428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sons, new goals, new requirements, new risk, etc.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4454640" y="1808280"/>
            <a:ext cx="941400" cy="85572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and technical goals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6" name="AutoShape 18"/>
          <p:cNvCxnSpPr>
            <a:stCxn id="165" idx="3"/>
            <a:endCxn id="156" idx="2"/>
          </p:cNvCxnSpPr>
          <p:nvPr/>
        </p:nvCxnSpPr>
        <p:spPr>
          <a:xfrm flipV="1">
            <a:off x="5395680" y="2042640"/>
            <a:ext cx="430920" cy="194400"/>
          </a:xfrm>
          <a:prstGeom prst="curvedConnector5">
            <a:avLst>
              <a:gd name="adj1" fmla="val 49749"/>
              <a:gd name="adj2" fmla="val 49907"/>
              <a:gd name="adj3" fmla="val 49749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67" name="Rectangle 19"/>
          <p:cNvSpPr/>
          <p:nvPr/>
        </p:nvSpPr>
        <p:spPr>
          <a:xfrm>
            <a:off x="7074000" y="2244600"/>
            <a:ext cx="1542960" cy="42732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s, plans, process, 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7245360" y="4722840"/>
            <a:ext cx="1542960" cy="42696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 fontScale="93000"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k products, status, metrics, results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Overall Plan and Cycle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9044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 rot="10800000">
            <a:off x="178920" y="2930040"/>
            <a:ext cx="42372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397160" y="2057400"/>
            <a:ext cx="457200" cy="2838600"/>
          </a:xfrm>
          <a:prstGeom prst="downArrow">
            <a:avLst>
              <a:gd name="adj1" fmla="val 50000"/>
              <a:gd name="adj2" fmla="val 15521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0800000">
            <a:off x="1407600" y="2182320"/>
            <a:ext cx="423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1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99960" y="5638680"/>
            <a:ext cx="8358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Overall Plan (for entire project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9960" y="4876920"/>
            <a:ext cx="1438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1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852560" y="4876920"/>
            <a:ext cx="20574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2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909960" y="4876920"/>
            <a:ext cx="16765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3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586480" y="4876920"/>
            <a:ext cx="20574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N -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643880" y="4876920"/>
            <a:ext cx="112716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N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192888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 rot="10800000">
            <a:off x="1932120" y="2877840"/>
            <a:ext cx="4237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71760" y="2062080"/>
            <a:ext cx="457200" cy="281484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 rot="10800000">
            <a:off x="3373560" y="1982520"/>
            <a:ext cx="42372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2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383364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 rot="10800000">
            <a:off x="3836520" y="2877840"/>
            <a:ext cx="4237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51016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 rot="10800000">
            <a:off x="5513040" y="2877840"/>
            <a:ext cx="4237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756288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 rot="10800000">
            <a:off x="7567200" y="2567160"/>
            <a:ext cx="423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847728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 rot="10800000">
            <a:off x="8484840" y="933120"/>
            <a:ext cx="4237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Project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976640" y="2062080"/>
            <a:ext cx="457200" cy="2813040"/>
          </a:xfrm>
          <a:prstGeom prst="downArrow">
            <a:avLst>
              <a:gd name="adj1" fmla="val 50000"/>
              <a:gd name="adj2" fmla="val 15381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 rot="10800000">
            <a:off x="4978080" y="1980720"/>
            <a:ext cx="42372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3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7034040" y="2057400"/>
            <a:ext cx="457200" cy="2817720"/>
          </a:xfrm>
          <a:prstGeom prst="downArrow">
            <a:avLst>
              <a:gd name="adj1" fmla="val 50000"/>
              <a:gd name="adj2" fmla="val 154075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 rot="10800000">
            <a:off x="7039080" y="1827360"/>
            <a:ext cx="4237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N-1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ycl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04920" y="5410080"/>
            <a:ext cx="8686800" cy="990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N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838080" y="18478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429000" y="22287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B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7467480" y="20764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D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5257800" y="1619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30492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1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1295280" y="4267080"/>
            <a:ext cx="1067040" cy="1214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2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2057400" y="4424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3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3276720" y="4343400"/>
            <a:ext cx="91440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4114800" y="4419720"/>
            <a:ext cx="91440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4952880" y="4419720"/>
            <a:ext cx="83844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5334120" y="4191120"/>
            <a:ext cx="8380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5486400" y="4429080"/>
            <a:ext cx="1022400" cy="1214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6438960" y="4343400"/>
            <a:ext cx="8380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N-1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7010280" y="4467240"/>
            <a:ext cx="198144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837720" y="2819520"/>
            <a:ext cx="443160" cy="16761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1298520" y="2800440"/>
            <a:ext cx="2435400" cy="169524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1262160" y="2763720"/>
            <a:ext cx="3919320" cy="17319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752480" y="3164040"/>
            <a:ext cx="2130480" cy="11793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3890880" y="3164040"/>
            <a:ext cx="1900440" cy="102708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5715000" y="2517840"/>
            <a:ext cx="838080" cy="18255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7924680" y="2992320"/>
            <a:ext cx="36720" cy="157968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5943240" y="2994120"/>
            <a:ext cx="1994040" cy="17301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 flipH="1">
            <a:off x="4572000" y="2571840"/>
            <a:ext cx="1122480" cy="192384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 flipH="1">
            <a:off x="2742840" y="3173400"/>
            <a:ext cx="1149480" cy="139860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vidual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14440" y="2800440"/>
            <a:ext cx="2361960" cy="2743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Work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029040" y="1523880"/>
            <a:ext cx="2133360" cy="1524240"/>
          </a:xfrm>
          <a:prstGeom prst="wedgeEllipseCallout">
            <a:avLst>
              <a:gd name="adj1" fmla="val -45310"/>
              <a:gd name="adj2" fmla="val 100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How big is it?  How long will I take to build it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562200" y="3429000"/>
            <a:ext cx="1828800" cy="1415880"/>
          </a:xfrm>
          <a:prstGeom prst="wedgeEllipseCallout">
            <a:avLst>
              <a:gd name="adj1" fmla="val -75953"/>
              <a:gd name="adj2" fmla="val -293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What steps will I take to build it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333600" y="4952880"/>
            <a:ext cx="2133720" cy="1219320"/>
          </a:xfrm>
          <a:prstGeom prst="wedgeEllipseCallout">
            <a:avLst>
              <a:gd name="adj1" fmla="val -66962"/>
              <a:gd name="adj2" fmla="val -29296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How well will it work when it is built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543640" y="1949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ersonal Planning Frame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543640" y="37018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ersonal Process Frame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543640" y="5181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ersonal Quality Frame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 rot="5400000">
            <a:off x="7394040" y="368892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Personal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7472520" y="1863720"/>
            <a:ext cx="603000" cy="4060800"/>
          </a:xfrm>
          <a:custGeom>
            <a:avLst/>
            <a:gdLst>
              <a:gd name="textAreaLeft" fmla="*/ 0 w 603000"/>
              <a:gd name="textAreaRight" fmla="*/ 217800 w 603000"/>
              <a:gd name="textAreaTop" fmla="*/ 105840 h 4060800"/>
              <a:gd name="textAreaBottom" fmla="*/ 3954960 h 406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en to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or relaunch occ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beginning of every projec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substantive changes to the plan are requi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may also be needed when new members are added to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ze them with the team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e them into the team’s pla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ir agreement with th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4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of 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the launch is to establish a common team understanding of the following project element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goals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and team members’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s that the team members will per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work to be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es that the team wil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for doing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nagement and customer reporting sys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going team communication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7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is a workshop used to kick off each projec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is considered to be part of the projec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s are planned and tra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0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launch workshop, the team produces a comprehensive plan for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accelerates team building. It buil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mon understanding of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ment on how to d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 to a team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for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s needed to get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3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du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92888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71360" y="1538280"/>
            <a:ext cx="1835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usiness need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Management goal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 requirement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200" y="4527720"/>
            <a:ext cx="14670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ceptual desig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lanned product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estimate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162240" y="4527720"/>
            <a:ext cx="15940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hour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arned-value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1714680" y="4527720"/>
            <a:ext cx="15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strateg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4635360" y="4527720"/>
            <a:ext cx="15940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role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Detailed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6083280" y="4527720"/>
            <a:ext cx="1595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Text Box 42"/>
          <p:cNvSpPr/>
          <p:nvPr/>
        </p:nvSpPr>
        <p:spPr>
          <a:xfrm>
            <a:off x="7542360" y="4527720"/>
            <a:ext cx="1377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Risk evalua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Risk mitigation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lternate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53" name="Picture 43" descr="S16"/>
          <p:cNvPicPr/>
          <p:nvPr/>
        </p:nvPicPr>
        <p:blipFill>
          <a:blip r:embed="rId1"/>
          <a:stretch/>
        </p:blipFill>
        <p:spPr>
          <a:xfrm>
            <a:off x="279360" y="2703600"/>
            <a:ext cx="8583480" cy="180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tchick\Local Settings\Temporary Internet Files\Content.IE5\6TCFAPSX\MCj01830320000[1].wmf"/>
          <p:cNvPicPr/>
          <p:nvPr/>
        </p:nvPicPr>
        <p:blipFill>
          <a:blip r:embed="rId2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1680" y="826920"/>
            <a:ext cx="7421400" cy="563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0256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0256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7781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27781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778120" y="472428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171288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35402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354024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262728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27280" y="266688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46069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46069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65120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53690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71978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 flipV="1">
            <a:off x="445464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4454640" y="266688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 flipH="1">
            <a:off x="354024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 flipV="1">
            <a:off x="354024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5" name="Rectangle 26"/>
          <p:cNvSpPr/>
          <p:nvPr/>
        </p:nvSpPr>
        <p:spPr>
          <a:xfrm>
            <a:off x="65120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6359400" y="2666520"/>
            <a:ext cx="0" cy="19796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6359400" y="2666880"/>
            <a:ext cx="1526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Line 29"/>
          <p:cNvSpPr/>
          <p:nvPr/>
        </p:nvSpPr>
        <p:spPr>
          <a:xfrm flipH="1">
            <a:off x="5368680" y="4646520"/>
            <a:ext cx="9903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 flipV="1">
            <a:off x="5369040" y="441972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1025640" y="472428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Line 32"/>
          <p:cNvSpPr/>
          <p:nvPr/>
        </p:nvSpPr>
        <p:spPr>
          <a:xfrm>
            <a:off x="171288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2" name="Line 33"/>
          <p:cNvSpPr/>
          <p:nvPr/>
        </p:nvSpPr>
        <p:spPr>
          <a:xfrm flipV="1">
            <a:off x="171288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Line 34"/>
          <p:cNvSpPr/>
          <p:nvPr/>
        </p:nvSpPr>
        <p:spPr>
          <a:xfrm flipH="1">
            <a:off x="171288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qualified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purpose for meeting 1 i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organizational and project management to describe the project objectives and management goals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eam members to understand what the team is supposed to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team-building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commitment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of Meeting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launch meeting 2 is to organize the team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ting project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team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goals provide a common objective for the team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roles provide a defined and accepted working framework for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6737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3 – The What and the Ho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471480" y="1592280"/>
            <a:ext cx="51973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3, the team accomplishes three important prerequisites to building the team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all of the “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 the team needs to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the “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rateg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 the team will use to develop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or defines the “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proce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 the team will follow to d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771480" y="1623960"/>
            <a:ext cx="2486160" cy="4522680"/>
            <a:chOff x="771480" y="1623960"/>
            <a:chExt cx="2486160" cy="4522680"/>
          </a:xfrm>
        </p:grpSpPr>
        <p:sp>
          <p:nvSpPr>
            <p:cNvPr id="292" name="Rectangle 5"/>
            <p:cNvSpPr/>
            <p:nvPr/>
          </p:nvSpPr>
          <p:spPr>
            <a:xfrm>
              <a:off x="927000" y="5518080"/>
              <a:ext cx="2125800" cy="6285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3" name="Oval 6"/>
            <p:cNvSpPr/>
            <p:nvPr/>
          </p:nvSpPr>
          <p:spPr>
            <a:xfrm>
              <a:off x="974880" y="4527720"/>
              <a:ext cx="2098440" cy="7887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4" name="Oval 7"/>
            <p:cNvSpPr/>
            <p:nvPr/>
          </p:nvSpPr>
          <p:spPr>
            <a:xfrm>
              <a:off x="946080" y="3559320"/>
              <a:ext cx="2098800" cy="7905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5" name="Oval 8"/>
            <p:cNvSpPr/>
            <p:nvPr/>
          </p:nvSpPr>
          <p:spPr>
            <a:xfrm>
              <a:off x="988920" y="2590920"/>
              <a:ext cx="2097360" cy="7905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789120" y="563868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roject strategy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996840" y="461340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rocess, suppor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771480" y="364176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1998720" y="4349880"/>
              <a:ext cx="0" cy="1648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1998720" y="5316480"/>
              <a:ext cx="0" cy="16524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988920" y="270180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strategy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>
              <a:off x="2011320" y="3381480"/>
              <a:ext cx="0" cy="1666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3" name="Oval 16"/>
            <p:cNvSpPr/>
            <p:nvPr/>
          </p:nvSpPr>
          <p:spPr>
            <a:xfrm>
              <a:off x="961920" y="1623960"/>
              <a:ext cx="2098800" cy="78912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784080" y="1708200"/>
              <a:ext cx="2473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Conceptual 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sig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5" name="Line 18"/>
            <p:cNvSpPr/>
            <p:nvPr/>
          </p:nvSpPr>
          <p:spPr>
            <a:xfrm>
              <a:off x="2011320" y="2413080"/>
              <a:ext cx="0" cy="1666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4469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4 - Build the Overall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471480" y="1595520"/>
            <a:ext cx="4930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4, the team creates the overall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sizes of the products and services to be produced (how big is the job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s needed to do the work (with effort estimat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50520" indent="-213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-phase tasks, detailed to the work step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50520" indent="-213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ter phases at a high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team hours available each week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initial schedule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ay consider alternative plans if management goals are not m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766800" y="1647720"/>
            <a:ext cx="2486160" cy="4592880"/>
            <a:chOff x="766800" y="1647720"/>
            <a:chExt cx="2486160" cy="4592880"/>
          </a:xfrm>
        </p:grpSpPr>
        <p:sp>
          <p:nvSpPr>
            <p:cNvPr id="309" name="Rectangle 5"/>
            <p:cNvSpPr/>
            <p:nvPr/>
          </p:nvSpPr>
          <p:spPr>
            <a:xfrm>
              <a:off x="784440" y="5597640"/>
              <a:ext cx="2332080" cy="6429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814680" y="4616640"/>
              <a:ext cx="2301840" cy="8078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1" name="Oval 7"/>
            <p:cNvSpPr/>
            <p:nvPr/>
          </p:nvSpPr>
          <p:spPr>
            <a:xfrm>
              <a:off x="814680" y="3627360"/>
              <a:ext cx="2301840" cy="8082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2" name="Oval 8"/>
            <p:cNvSpPr/>
            <p:nvPr/>
          </p:nvSpPr>
          <p:spPr>
            <a:xfrm>
              <a:off x="814680" y="2633760"/>
              <a:ext cx="2301840" cy="8096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3" name="Oval 9"/>
            <p:cNvSpPr/>
            <p:nvPr/>
          </p:nvSpPr>
          <p:spPr>
            <a:xfrm>
              <a:off x="806760" y="1647720"/>
              <a:ext cx="2300040" cy="8082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835200" y="577368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Overall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766800" y="478008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Available time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839880" y="375588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Estimate resource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849600" y="279396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fine task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1967040" y="4435560"/>
              <a:ext cx="0" cy="16812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1967040" y="3443400"/>
              <a:ext cx="0" cy="17136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1967040" y="5424480"/>
              <a:ext cx="0" cy="17316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1" name="Text Box 17"/>
            <p:cNvSpPr/>
            <p:nvPr/>
          </p:nvSpPr>
          <p:spPr>
            <a:xfrm>
              <a:off x="839880" y="182412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Estimate size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2" name="Line 18"/>
            <p:cNvSpPr/>
            <p:nvPr/>
          </p:nvSpPr>
          <p:spPr>
            <a:xfrm>
              <a:off x="1957680" y="2455920"/>
              <a:ext cx="0" cy="16992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6240" y="874440"/>
            <a:ext cx="826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80560" y="14652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on a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on a TSP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Size Estim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1017720" y="3413160"/>
            <a:ext cx="3630600" cy="1185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17360" y="1743120"/>
            <a:ext cx="7172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teams typically document their size estimates in a TSP support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ize estimates look like the following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Task and Resourc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4360" y="1557360"/>
            <a:ext cx="762156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ask list includes the product assembly, process phase, task, team assignment, estimated size, and development time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641520" y="2716200"/>
            <a:ext cx="8022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4469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5 - Build a Quality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471480" y="1582560"/>
            <a:ext cx="4930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5, the team builds a quality plan that estimates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defects that will be injected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defects that will be removed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(defect density) of the final products &amp; serv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(process quality index) of the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ensures that the plan meets the quality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022400" y="1649520"/>
            <a:ext cx="1971720" cy="4014720"/>
            <a:chOff x="1022400" y="1649520"/>
            <a:chExt cx="1971720" cy="4014720"/>
          </a:xfrm>
        </p:grpSpPr>
        <p:sp>
          <p:nvSpPr>
            <p:cNvPr id="332" name="Rectangle 5"/>
            <p:cNvSpPr/>
            <p:nvPr/>
          </p:nvSpPr>
          <p:spPr>
            <a:xfrm>
              <a:off x="1128960" y="4948560"/>
              <a:ext cx="1752480" cy="71568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28960" y="3857760"/>
              <a:ext cx="1728720" cy="9000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4" name="Oval 7"/>
            <p:cNvSpPr/>
            <p:nvPr/>
          </p:nvSpPr>
          <p:spPr>
            <a:xfrm>
              <a:off x="1152720" y="2754360"/>
              <a:ext cx="1728720" cy="9003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5" name="Oval 8"/>
            <p:cNvSpPr/>
            <p:nvPr/>
          </p:nvSpPr>
          <p:spPr>
            <a:xfrm>
              <a:off x="1128960" y="1649520"/>
              <a:ext cx="1728720" cy="9018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1241640" y="503244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Quality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1249560" y="177804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Quality goal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089000" y="288324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fects injecte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1022400" y="401976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fects remove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2014560" y="3654720"/>
              <a:ext cx="0" cy="18864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1994040" y="2551320"/>
              <a:ext cx="0" cy="18900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1994040" y="4757760"/>
              <a:ext cx="0" cy="19080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04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ke the quality plan, the team enters defect-injection and yield data and the TSP support tool calculates the defects injected and removed by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5187960" y="1709640"/>
            <a:ext cx="2855880" cy="2219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987480" y="2973240"/>
            <a:ext cx="386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5040" y="880920"/>
            <a:ext cx="7977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eting 6 - Build Individual Work Plan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471480" y="1620720"/>
            <a:ext cx="4930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launch meeting 6, the team allocates tasks to the team members, who build individual work plans for their tasks for the next phas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building their plans, the team member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fine size and effort estimates using their own data and process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break tasks to the granularity of around 10 task hours per task or l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stimate their own available task hours for each wee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reate an earned-value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reviews individual plans and balances workloads across all team memb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1060560" y="1643040"/>
            <a:ext cx="1903320" cy="4100400"/>
            <a:chOff x="1060560" y="1643040"/>
            <a:chExt cx="1903320" cy="4100400"/>
          </a:xfrm>
        </p:grpSpPr>
        <p:sp>
          <p:nvSpPr>
            <p:cNvPr id="350" name="Oval 5"/>
            <p:cNvSpPr/>
            <p:nvPr/>
          </p:nvSpPr>
          <p:spPr>
            <a:xfrm>
              <a:off x="1184400" y="1643040"/>
              <a:ext cx="1636560" cy="9190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1" name="Oval 6"/>
            <p:cNvSpPr/>
            <p:nvPr/>
          </p:nvSpPr>
          <p:spPr>
            <a:xfrm>
              <a:off x="1206360" y="2768760"/>
              <a:ext cx="1635120" cy="9190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1184400" y="3894120"/>
              <a:ext cx="1636560" cy="9190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195200" y="5011560"/>
              <a:ext cx="1657440" cy="73188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4" name="Text Box 9"/>
            <p:cNvSpPr/>
            <p:nvPr/>
          </p:nvSpPr>
          <p:spPr>
            <a:xfrm>
              <a:off x="1060560" y="5064120"/>
              <a:ext cx="19033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alance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1297080" y="180828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Allocate task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6" name="Text Box 11"/>
            <p:cNvSpPr/>
            <p:nvPr/>
          </p:nvSpPr>
          <p:spPr>
            <a:xfrm>
              <a:off x="1144440" y="293688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Individual plan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1081080" y="402444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alance workloa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2023920" y="3687840"/>
              <a:ext cx="0" cy="1918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2000160" y="2562120"/>
              <a:ext cx="0" cy="19224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0" name="Line 15"/>
            <p:cNvSpPr/>
            <p:nvPr/>
          </p:nvSpPr>
          <p:spPr>
            <a:xfrm>
              <a:off x="2000160" y="4813200"/>
              <a:ext cx="0" cy="1954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33"/>
          <p:cNvSpPr/>
          <p:nvPr/>
        </p:nvSpPr>
        <p:spPr>
          <a:xfrm>
            <a:off x="2660760" y="1425600"/>
            <a:ext cx="0" cy="5068800"/>
          </a:xfrm>
          <a:prstGeom prst="line">
            <a:avLst/>
          </a:prstGeom>
          <a:ln w="7632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640" y="4910040"/>
            <a:ext cx="230076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Overall team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op-dow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ll pha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29920" y="4906800"/>
            <a:ext cx="246060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ndividual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ottom-u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detail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xt-phase onl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04880" y="4906800"/>
            <a:ext cx="28126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xt-phase team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alanc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realisti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xt-phase onl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66" name="Group 6"/>
          <p:cNvGrpSpPr/>
          <p:nvPr/>
        </p:nvGrpSpPr>
        <p:grpSpPr>
          <a:xfrm>
            <a:off x="3292560" y="1789200"/>
            <a:ext cx="2133360" cy="2604960"/>
            <a:chOff x="3292560" y="1789200"/>
            <a:chExt cx="2133360" cy="2604960"/>
          </a:xfrm>
        </p:grpSpPr>
        <p:grpSp>
          <p:nvGrpSpPr>
            <p:cNvPr id="367" name="Group 7"/>
            <p:cNvGrpSpPr/>
            <p:nvPr/>
          </p:nvGrpSpPr>
          <p:grpSpPr>
            <a:xfrm>
              <a:off x="3292560" y="1789200"/>
              <a:ext cx="2133360" cy="507960"/>
              <a:chOff x="3292560" y="1789200"/>
              <a:chExt cx="2133360" cy="507960"/>
            </a:xfrm>
          </p:grpSpPr>
          <p:sp>
            <p:nvSpPr>
              <p:cNvPr id="368" name="Text Box 8"/>
              <p:cNvSpPr/>
              <p:nvPr/>
            </p:nvSpPr>
            <p:spPr>
              <a:xfrm>
                <a:off x="3362400" y="1862280"/>
                <a:ext cx="1959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Individual pla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69" name="Rectangle 9"/>
              <p:cNvSpPr/>
              <p:nvPr/>
            </p:nvSpPr>
            <p:spPr>
              <a:xfrm>
                <a:off x="3292560" y="1789200"/>
                <a:ext cx="2133360" cy="5079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0"/>
            <p:cNvGrpSpPr/>
            <p:nvPr/>
          </p:nvGrpSpPr>
          <p:grpSpPr>
            <a:xfrm>
              <a:off x="3292560" y="2419560"/>
              <a:ext cx="2133360" cy="507960"/>
              <a:chOff x="3292560" y="2419560"/>
              <a:chExt cx="2133360" cy="507960"/>
            </a:xfrm>
          </p:grpSpPr>
          <p:sp>
            <p:nvSpPr>
              <p:cNvPr id="371" name="Text Box 11"/>
              <p:cNvSpPr/>
              <p:nvPr/>
            </p:nvSpPr>
            <p:spPr>
              <a:xfrm>
                <a:off x="3362400" y="2492640"/>
                <a:ext cx="1959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Individual pla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72" name="Rectangle 12"/>
              <p:cNvSpPr/>
              <p:nvPr/>
            </p:nvSpPr>
            <p:spPr>
              <a:xfrm>
                <a:off x="3292560" y="2419560"/>
                <a:ext cx="2133360" cy="5079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13"/>
            <p:cNvGrpSpPr/>
            <p:nvPr/>
          </p:nvGrpSpPr>
          <p:grpSpPr>
            <a:xfrm>
              <a:off x="3292560" y="3886200"/>
              <a:ext cx="2133360" cy="507960"/>
              <a:chOff x="3292560" y="3886200"/>
              <a:chExt cx="2133360" cy="507960"/>
            </a:xfrm>
          </p:grpSpPr>
          <p:sp>
            <p:nvSpPr>
              <p:cNvPr id="374" name="Text Box 14"/>
              <p:cNvSpPr/>
              <p:nvPr/>
            </p:nvSpPr>
            <p:spPr>
              <a:xfrm>
                <a:off x="3362400" y="3959280"/>
                <a:ext cx="1959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Individual pla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75" name="Rectangle 15"/>
              <p:cNvSpPr/>
              <p:nvPr/>
            </p:nvSpPr>
            <p:spPr>
              <a:xfrm>
                <a:off x="3292560" y="3886200"/>
                <a:ext cx="2133360" cy="5079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sp>
          <p:nvSpPr>
            <p:cNvPr id="376" name="Text Box 16"/>
            <p:cNvSpPr/>
            <p:nvPr/>
          </p:nvSpPr>
          <p:spPr>
            <a:xfrm>
              <a:off x="4226400" y="2779920"/>
              <a:ext cx="266040" cy="10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77" name="Group 17"/>
          <p:cNvGrpSpPr/>
          <p:nvPr/>
        </p:nvGrpSpPr>
        <p:grpSpPr>
          <a:xfrm>
            <a:off x="6708600" y="2530440"/>
            <a:ext cx="1776600" cy="928800"/>
            <a:chOff x="6708600" y="2530440"/>
            <a:chExt cx="1776600" cy="928800"/>
          </a:xfrm>
        </p:grpSpPr>
        <p:sp>
          <p:nvSpPr>
            <p:cNvPr id="378" name="Text Box 18"/>
            <p:cNvSpPr/>
            <p:nvPr/>
          </p:nvSpPr>
          <p:spPr>
            <a:xfrm>
              <a:off x="6723000" y="2687760"/>
              <a:ext cx="17622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9536b"/>
                  </a:solidFill>
                  <a:latin typeface="Arial"/>
                </a:rPr>
                <a:t>Next-phase team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6708600" y="2530440"/>
              <a:ext cx="1756080" cy="92880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80" name="Group 20"/>
          <p:cNvGrpSpPr/>
          <p:nvPr/>
        </p:nvGrpSpPr>
        <p:grpSpPr>
          <a:xfrm>
            <a:off x="268200" y="2535120"/>
            <a:ext cx="1755720" cy="928800"/>
            <a:chOff x="268200" y="2535120"/>
            <a:chExt cx="1755720" cy="928800"/>
          </a:xfrm>
        </p:grpSpPr>
        <p:sp>
          <p:nvSpPr>
            <p:cNvPr id="381" name="Text Box 21"/>
            <p:cNvSpPr/>
            <p:nvPr/>
          </p:nvSpPr>
          <p:spPr>
            <a:xfrm>
              <a:off x="392040" y="2687400"/>
              <a:ext cx="14702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9536b"/>
                  </a:solidFill>
                  <a:latin typeface="Arial"/>
                </a:rPr>
                <a:t>Overall team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268200" y="2535120"/>
              <a:ext cx="1755720" cy="92880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83" name="Text Box 23"/>
          <p:cNvSpPr/>
          <p:nvPr/>
        </p:nvSpPr>
        <p:spPr>
          <a:xfrm>
            <a:off x="484200" y="1514520"/>
            <a:ext cx="123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Meeting 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5676840" y="1488960"/>
            <a:ext cx="123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Meeting</a:t>
            </a:r>
            <a:r>
              <a:rPr b="1" lang="en-US" sz="1800" spc="-1" strike="noStrike">
                <a:solidFill>
                  <a:srgbClr val="f7df3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5" name="Line 25"/>
          <p:cNvSpPr/>
          <p:nvPr/>
        </p:nvSpPr>
        <p:spPr>
          <a:xfrm flipV="1">
            <a:off x="2017800" y="2025360"/>
            <a:ext cx="1276200" cy="958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6" name="Line 26"/>
          <p:cNvSpPr/>
          <p:nvPr/>
        </p:nvSpPr>
        <p:spPr>
          <a:xfrm flipV="1">
            <a:off x="2017800" y="2649600"/>
            <a:ext cx="1276200" cy="34920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7" name="Line 27"/>
          <p:cNvSpPr/>
          <p:nvPr/>
        </p:nvSpPr>
        <p:spPr>
          <a:xfrm>
            <a:off x="2017800" y="2998800"/>
            <a:ext cx="1276200" cy="114624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>
            <a:off x="5427720" y="2039760"/>
            <a:ext cx="1263600" cy="94464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9" name="Line 29"/>
          <p:cNvSpPr/>
          <p:nvPr/>
        </p:nvSpPr>
        <p:spPr>
          <a:xfrm>
            <a:off x="5443560" y="2679840"/>
            <a:ext cx="1262160" cy="3189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 flipV="1">
            <a:off x="5427720" y="2984040"/>
            <a:ext cx="1278000" cy="1174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856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7 - Ri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91800" y="1735200"/>
            <a:ext cx="74106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7 (Script LAU7), the team identifies and assesses risks to the team meeting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sks are documented in the team’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assigned to team members to track during th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dentifies mitigation and recovery strategies for high-priority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5040" y="880920"/>
            <a:ext cx="8148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eting 8 - Prepare Management Briefing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91800" y="1735200"/>
            <a:ext cx="74106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8, the team prepares a presentation on the plan for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’s plan does not meet management’s goals, the team generates alternate plans to come closer to or meet management’s goal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mor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ing a reduced-functionality initial version, followed later by a full-functionality version(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5040" y="880920"/>
            <a:ext cx="8148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9 - Management Re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1800" y="1735200"/>
            <a:ext cx="74106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9, the team presents its plan (and alternatives, if any) to management and answers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determines whe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is based on sound estimates, historical data, and a quality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believes in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or an alternative meets the busines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ves the plan or an alterna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s the team to look at a different alterna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Postmorte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postmortem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olidate the plan and launch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launch process and produce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open issues and agree on how to handl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launch step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y for the project note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y for handling the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le launch data in the project note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launch evaluation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mit the launch data and evaluations to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in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teams are both satisfying and r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hough many teams come close to meeting their product and business goals, they often do so at the expense of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describe a team that works together smoothly and efficiently as being a “jelled team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jelled team is…greater than the sum of its parts… and the enjoyment people derive from the work is greater than you would expect.”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39536b"/>
                </a:solidFill>
                <a:uFillTx/>
                <a:latin typeface="Arial"/>
              </a:rPr>
              <a:t>Peopleware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DeMarco and Lis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projects ar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self-direct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  Being a self-directed project means that the team manages itself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the processes they def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and tracking their individual and team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the quality of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aggressively to meet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also show management and the customer that they are managing themsel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quently report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, plan for, and report on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team roles and the TSP weekly team meeting are mechanisms which enable self-dire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17360" y="1467000"/>
            <a:ext cx="7413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elf-management responsibilities are shared among team members through defined team member roles, such a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s should be tailored to meet the needs of the team. In addition to these roles listed above, others may be needed to address specific project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98600" y="2705040"/>
          <a:ext cx="8229600" cy="1554120"/>
        </p:xfrm>
        <a:graphic>
          <a:graphicData uri="http://schemas.openxmlformats.org/drawingml/2006/table">
            <a:tbl>
              <a:tblPr/>
              <a:tblGrid>
                <a:gridCol w="3954240"/>
                <a:gridCol w="427536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404" name="Picture 21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25280" y="1487160"/>
            <a:ext cx="74134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development roles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ustomer interface manager – focal point for requirements and customer-related issu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ign manager – establishes design standards and guides the design 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mplementation manager – defines the implementation standards and handles implementation issu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st manager – ensures that test issues are properly considered and handles test planning and coordinati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SP support roles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lanning manager – helps the team maintain, track, and report on the plan and plan statu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cess manager – guides the process definition work, handles PIPs, and monitors process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Quality manager – reviews process and product quality and monitors team inspec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upport manager – ensures that proper support tools and aids are available and handles support issu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 roles ar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ime consum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should have a team member role in addition to their normal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role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eam input on their decis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 their role duties promptly and profession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disciplined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, track, and manage thei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and contribute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eam Leader’s Ro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rmally, the team leader does not take one of the eight team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’s job i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 the team in doing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maintain high standards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e team accountable for problem solv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the team-directed management conce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7710480" y="144360"/>
            <a:ext cx="95580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keeps the project on track by reviewing status and planned work for the team and each team member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objective is to ensure that all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urrent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at tasks are nex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ware of everyone’s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 status against the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actions needed to ensure high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key project issues an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key team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7608960" y="366840"/>
            <a:ext cx="111600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data on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ing the quality of the work that they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status against their persona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ing the team informed on their personal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racking in the TSP uses the following metr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 (how big is the product being buil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(in minutes per tas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(by pha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/tracking with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team and individual plans facilitate precise project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7201080" y="4635360"/>
            <a:ext cx="9903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5389560" y="5016600"/>
            <a:ext cx="9921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7354800" y="4788000"/>
            <a:ext cx="9892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2" name="AutoShape 5"/>
          <p:cNvSpPr/>
          <p:nvPr/>
        </p:nvSpPr>
        <p:spPr>
          <a:xfrm>
            <a:off x="6667560" y="3720960"/>
            <a:ext cx="687240" cy="152640"/>
          </a:xfrm>
          <a:prstGeom prst="rightArrow">
            <a:avLst>
              <a:gd name="adj1" fmla="val 50000"/>
              <a:gd name="adj2" fmla="val 11255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7469280" y="4940280"/>
            <a:ext cx="9903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eam Memb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5389560" y="1968480"/>
            <a:ext cx="9921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1181160" y="3494160"/>
            <a:ext cx="3608280" cy="608040"/>
          </a:xfrm>
          <a:custGeom>
            <a:avLst/>
            <a:gdLst>
              <a:gd name="textAreaLeft" fmla="*/ 563760 w 3608280"/>
              <a:gd name="textAreaRight" fmla="*/ 3157560 w 3608280"/>
              <a:gd name="textAreaTop" fmla="*/ 151920 h 608040"/>
              <a:gd name="textAreaBottom" fmla="*/ 456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6" name="AutoShape 9"/>
          <p:cNvSpPr/>
          <p:nvPr/>
        </p:nvSpPr>
        <p:spPr>
          <a:xfrm rot="3111600">
            <a:off x="99036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7" name="AutoShape 10"/>
          <p:cNvSpPr/>
          <p:nvPr/>
        </p:nvSpPr>
        <p:spPr>
          <a:xfrm rot="3111600">
            <a:off x="274320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8" name="AutoShape 11"/>
          <p:cNvSpPr/>
          <p:nvPr/>
        </p:nvSpPr>
        <p:spPr>
          <a:xfrm rot="18417000">
            <a:off x="28191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9" name="AutoShape 12"/>
          <p:cNvSpPr/>
          <p:nvPr/>
        </p:nvSpPr>
        <p:spPr>
          <a:xfrm rot="18417000">
            <a:off x="9903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0" name="Oval 13"/>
          <p:cNvSpPr/>
          <p:nvPr/>
        </p:nvSpPr>
        <p:spPr>
          <a:xfrm>
            <a:off x="419040" y="4710240"/>
            <a:ext cx="1371600" cy="91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defects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y component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1" name="Oval 14"/>
          <p:cNvSpPr/>
          <p:nvPr/>
        </p:nvSpPr>
        <p:spPr>
          <a:xfrm>
            <a:off x="2400480" y="4788000"/>
            <a:ext cx="13716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on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2" name="Oval 15"/>
          <p:cNvSpPr/>
          <p:nvPr/>
        </p:nvSpPr>
        <p:spPr>
          <a:xfrm>
            <a:off x="2400480" y="1968480"/>
            <a:ext cx="13716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week of 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le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3" name="Oval 16"/>
          <p:cNvSpPr/>
          <p:nvPr/>
        </p:nvSpPr>
        <p:spPr>
          <a:xfrm>
            <a:off x="495360" y="1890720"/>
            <a:ext cx="1371600" cy="91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im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4" name="AutoShape 17"/>
          <p:cNvSpPr/>
          <p:nvPr/>
        </p:nvSpPr>
        <p:spPr>
          <a:xfrm>
            <a:off x="5846760" y="417816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5" name="AutoShape 18"/>
          <p:cNvSpPr/>
          <p:nvPr/>
        </p:nvSpPr>
        <p:spPr>
          <a:xfrm rot="10800000">
            <a:off x="5846400" y="257760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4789440" y="3340080"/>
            <a:ext cx="2183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pdated team and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individual task, schedule,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quality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7" name="AutoShape 20"/>
          <p:cNvSpPr/>
          <p:nvPr/>
        </p:nvSpPr>
        <p:spPr>
          <a:xfrm rot="5010600">
            <a:off x="7505280" y="4483080"/>
            <a:ext cx="876240" cy="114120"/>
          </a:xfrm>
          <a:prstGeom prst="rightArrow">
            <a:avLst>
              <a:gd name="adj1" fmla="val 50000"/>
              <a:gd name="adj2" fmla="val 191956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8" name="AutoShape 21"/>
          <p:cNvSpPr/>
          <p:nvPr/>
        </p:nvSpPr>
        <p:spPr>
          <a:xfrm rot="6050400">
            <a:off x="7372080" y="4159080"/>
            <a:ext cx="876240" cy="152640"/>
          </a:xfrm>
          <a:prstGeom prst="rightArrow">
            <a:avLst>
              <a:gd name="adj1" fmla="val 50000"/>
              <a:gd name="adj2" fmla="val 143514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9" name="AutoShape 22"/>
          <p:cNvSpPr/>
          <p:nvPr/>
        </p:nvSpPr>
        <p:spPr>
          <a:xfrm rot="5535600">
            <a:off x="7429680" y="4331160"/>
            <a:ext cx="876600" cy="112680"/>
          </a:xfrm>
          <a:prstGeom prst="rightArrow">
            <a:avLst>
              <a:gd name="adj1" fmla="val 50000"/>
              <a:gd name="adj2" fmla="val 19448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0" name="AutoShape 23"/>
          <p:cNvSpPr/>
          <p:nvPr/>
        </p:nvSpPr>
        <p:spPr>
          <a:xfrm rot="15351000">
            <a:off x="7219800" y="3074760"/>
            <a:ext cx="992160" cy="150840"/>
          </a:xfrm>
          <a:prstGeom prst="rightArrow">
            <a:avLst>
              <a:gd name="adj1" fmla="val 50000"/>
              <a:gd name="adj2" fmla="val 16443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1" name="AutoShape 24"/>
          <p:cNvSpPr/>
          <p:nvPr/>
        </p:nvSpPr>
        <p:spPr>
          <a:xfrm rot="16015200">
            <a:off x="7315200" y="314892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2" name="AutoShape 25"/>
          <p:cNvSpPr/>
          <p:nvPr/>
        </p:nvSpPr>
        <p:spPr>
          <a:xfrm rot="16507200">
            <a:off x="7391880" y="3302640"/>
            <a:ext cx="990720" cy="150840"/>
          </a:xfrm>
          <a:prstGeom prst="rightArrow">
            <a:avLst>
              <a:gd name="adj1" fmla="val 50000"/>
              <a:gd name="adj2" fmla="val 1642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3" name="Rectangle 26"/>
          <p:cNvSpPr/>
          <p:nvPr/>
        </p:nvSpPr>
        <p:spPr>
          <a:xfrm>
            <a:off x="7354800" y="3494160"/>
            <a:ext cx="120672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task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4" name="Rectangle 27"/>
          <p:cNvSpPr/>
          <p:nvPr/>
        </p:nvSpPr>
        <p:spPr>
          <a:xfrm>
            <a:off x="7277040" y="1968480"/>
            <a:ext cx="9907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5" name="Rectangle 28"/>
          <p:cNvSpPr/>
          <p:nvPr/>
        </p:nvSpPr>
        <p:spPr>
          <a:xfrm>
            <a:off x="7354800" y="2120760"/>
            <a:ext cx="989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Rectangle 29"/>
          <p:cNvSpPr/>
          <p:nvPr/>
        </p:nvSpPr>
        <p:spPr>
          <a:xfrm>
            <a:off x="7469280" y="2274840"/>
            <a:ext cx="99036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eam Memb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10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51" name="Picture 11" descr=""/>
          <p:cNvPicPr/>
          <p:nvPr/>
        </p:nvPicPr>
        <p:blipFill>
          <a:blip r:embed="rId1"/>
          <a:stretch/>
        </p:blipFill>
        <p:spPr>
          <a:xfrm>
            <a:off x="228600" y="1687680"/>
            <a:ext cx="86868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Do Teams Succeed or Fail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eam’s success or failure is often attributable to the ability of individuals to work together as a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ical issues are generally not as important to team success as non-technical issues and “people”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issues are often caused by non-technical issues that produce frustration, anger, and other behaviors that are disruptive to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766960" y="4838760"/>
            <a:ext cx="2841840" cy="13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838080" y="38577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2"/>
          <a:stretch/>
        </p:blipFill>
        <p:spPr>
          <a:xfrm>
            <a:off x="83808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3"/>
          <a:stretch/>
        </p:blipFill>
        <p:spPr>
          <a:xfrm>
            <a:off x="473076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4"/>
          <a:stretch/>
        </p:blipFill>
        <p:spPr>
          <a:xfrm>
            <a:off x="4732200" y="3857760"/>
            <a:ext cx="364968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849240" y="15573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2"/>
          <a:stretch/>
        </p:blipFill>
        <p:spPr>
          <a:xfrm>
            <a:off x="849240" y="3863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3"/>
          <a:stretch/>
        </p:blipFill>
        <p:spPr>
          <a:xfrm>
            <a:off x="4656240" y="15573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4"/>
          <a:stretch/>
        </p:blipFill>
        <p:spPr>
          <a:xfrm>
            <a:off x="4656240" y="3863880"/>
            <a:ext cx="364968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100980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"/>
          <p:cNvPicPr/>
          <p:nvPr/>
        </p:nvPicPr>
        <p:blipFill>
          <a:blip r:embed="rId2"/>
          <a:stretch/>
        </p:blipFill>
        <p:spPr>
          <a:xfrm>
            <a:off x="1009800" y="38577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"/>
          <p:cNvPicPr/>
          <p:nvPr/>
        </p:nvPicPr>
        <p:blipFill>
          <a:blip r:embed="rId3"/>
          <a:stretch/>
        </p:blipFill>
        <p:spPr>
          <a:xfrm>
            <a:off x="474516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"/>
          <p:cNvPicPr/>
          <p:nvPr/>
        </p:nvPicPr>
        <p:blipFill>
          <a:blip r:embed="rId4"/>
          <a:stretch/>
        </p:blipFill>
        <p:spPr>
          <a:xfrm>
            <a:off x="4745160" y="3857760"/>
            <a:ext cx="364968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2666880" y="1500120"/>
            <a:ext cx="4267440" cy="2354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"/>
          <p:cNvPicPr/>
          <p:nvPr/>
        </p:nvPicPr>
        <p:blipFill>
          <a:blip r:embed="rId2"/>
          <a:stretch/>
        </p:blipFill>
        <p:spPr>
          <a:xfrm>
            <a:off x="4648320" y="3911760"/>
            <a:ext cx="4495680" cy="2482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"/>
          <p:cNvPicPr/>
          <p:nvPr/>
        </p:nvPicPr>
        <p:blipFill>
          <a:blip r:embed="rId3"/>
          <a:stretch/>
        </p:blipFill>
        <p:spPr>
          <a:xfrm>
            <a:off x="0" y="3895560"/>
            <a:ext cx="4572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Makes TSP Uniq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already be using some of the planning, tracking, and quality management practices in the TS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makes the TSP unique is that all these practices are integrated into an operational framework that addres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o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hat framework cannot only be used at the project level, but at an individual team member level to guide day-to-day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17360" y="1734840"/>
            <a:ext cx="671652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ear goals and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greed-upon processes and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self-directed teams, the membe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nderstand their goals and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voluntarily commit to their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lieve their commitments are achievab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launch builds self-directed tea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of self-directed teams practice disciplined personal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Key Non-technical Issu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key non-technical issues that affect team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or leadershi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n-supportive work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clear or shared understanding of individual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clear goals or prior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ced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fined or unplanned approach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realistic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discipline or commit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se issues are not addressed by the team or management, team performance suff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639200" y="309600"/>
            <a:ext cx="9014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-building Take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720" y="1747440"/>
            <a:ext cx="75657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bility of a team to work together effectively develops ove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generally begin wit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vers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clear sense of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gue ideas of the product to be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fferent approaches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ime, team members converge on a mutual understanding of these factors and can achieve their bes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 normal circumstances, the evolution of a successful team can take months or even yea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816600" y="2354400"/>
            <a:ext cx="147816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elerating Team-build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tificially-jelled teams can be built quickly through “team-building” exerci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treats, seminars,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mes (paintball, laser tag, etc.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ived challenges (e.g., blind obstacle cours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-building activities are unlikely to produce long-term team success unless they address real workplace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understanding of roles, goals,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of team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n effective way of building jelled teams quic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elerating Team-buildin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addresses the need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who can build quality products within cost and schedule constra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teams quickly and reliab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timizing team performance throughout a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lerating proces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use of mature processes normal and exp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08:05Z</dcterms:modified>
  <cp:revision>170</cp:revision>
  <dc:subject/>
  <dc:title>No Slide Title</dc:title>
</cp:coreProperties>
</file>